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6D0-2C8B-4EC6-83B2-162A9C1428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еловек, любящий , умеющий читать - счастливый человек. Он окружен множеством умных, добрых и верных друзей. Друзья - это книги. Вы все часто бываете в библиотеке и знаете, как много здесь книг. Как же не ошибиться и выбрать нужную? Очень просто. Ведь книга сама может рассказать о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вы думаете, с чего начинается книг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3D2-1CDF-4A22-8B9D-8DA311D2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026-676E-4FAD-BABE-17CADDEC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53F-8D4A-46A5-9610-9A99DC68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7C4-5408-4746-A056-624F40FE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076E-45F7-4FA7-9892-A0438028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DA1A-56AF-488E-9124-EB3E917E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67E4-F369-4567-B156-26D56573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1F6C-E2A3-43AA-84D1-F250497D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81A6-B3C3-4F8C-AA90-BC0ABF57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12A5-829D-43E9-884C-B01BEF51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4069-D24B-4530-9B62-70C04FEB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4E6-F6D2-4AE5-A96B-4925FCB1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6C9D-B9F2-45AD-ABDA-2E08884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DE0D-5BC7-4255-A7F4-8BB28F9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F22B-917B-4780-A638-3BE6CE03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0F2E-DF87-48C3-B7B2-74756947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FE7B-A6F0-4DD5-A261-35854277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D1D-6F54-4D1F-8D4D-6F5F3E7F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CAC-92CB-4204-81BA-9444B0C3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23A-B1D4-4F7D-B702-02B1A5FA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114-53F4-410D-82AF-47F3C473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A6F-6BC9-41BB-AF3A-2F94F746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E36-5582-4890-BCB8-131E4ED5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992-C925-4DD1-9A72-5C5F4132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332D-FB40-4E5F-A53B-2B040A44DFD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9F00-197F-4082-AD08-7728C795716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A502-D706-4D84-90F9-158B1C8754C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9DF6-9662-47AD-A5A8-8CEBC7847EE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6a46"/>
                </a:solidFill>
                <a:latin typeface="Tahoma"/>
              </a:rPr>
              <a:t>«Строение книг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6a46"/>
                </a:solidFill>
                <a:latin typeface="Tahoma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58920" y="765000"/>
            <a:ext cx="698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d06a46">
                      <a:alpha val="80000"/>
                    </a:srgbClr>
                  </a:outerShdw>
                </a:effectLst>
                <a:latin typeface="Impact"/>
              </a:rPr>
              <a:t>БИБЛИОТЕЧНЫЙ УРО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d06a46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FD47-35C1-4CD8-A2B9-33C830FFEB4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DD57C3B-3F7B-461B-9F33-8F138F382A22}" type="datetime1">
              <a:rPr lang="en-US"/>
              <a:t>07/31/26</a:t>
            </a:fld>
          </a:p>
        </p:txBody>
      </p:sp>
    </p:spTree>
  </p:cSld>
  <p:transition spd="med"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роме обложки и титульного листа есть очень важные элементы книги. Они называются справочные и тоже помогают в выборе книги. Это аннотация, предисловие, оглавл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8028000" y="6381720"/>
            <a:ext cx="287280" cy="252360"/>
          </a:xfrm>
          <a:custGeom>
            <a:avLst/>
            <a:gdLst>
              <a:gd name="textAreaLeft" fmla="*/ 16200 w 287280"/>
              <a:gd name="textAreaRight" fmla="*/ 271080 w 28728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4585" h="21600">
                <a:moveTo>
                  <a:pt x="0" y="0"/>
                </a:moveTo>
                <a:lnTo>
                  <a:pt x="24585" y="0"/>
                </a:lnTo>
                <a:lnTo>
                  <a:pt x="24585" y="21600"/>
                </a:lnTo>
                <a:lnTo>
                  <a:pt x="0" y="21600"/>
                </a:lnTo>
                <a:close/>
              </a:path>
              <a:path fill="lightenLess" w="24585" h="21600">
                <a:moveTo>
                  <a:pt x="0" y="0"/>
                </a:moveTo>
                <a:lnTo>
                  <a:pt x="24585" y="0"/>
                </a:lnTo>
                <a:lnTo>
                  <a:pt x="23185" y="1400"/>
                </a:lnTo>
                <a:lnTo>
                  <a:pt x="1400" y="1400"/>
                </a:lnTo>
                <a:close/>
              </a:path>
              <a:path fill="darken" w="24585" h="21600">
                <a:moveTo>
                  <a:pt x="24585" y="0"/>
                </a:moveTo>
                <a:lnTo>
                  <a:pt x="24585" y="21600"/>
                </a:lnTo>
                <a:lnTo>
                  <a:pt x="23185" y="20200"/>
                </a:lnTo>
                <a:lnTo>
                  <a:pt x="23185" y="1400"/>
                </a:lnTo>
                <a:close/>
              </a:path>
              <a:path fill="darkenLess" w="24585" h="21600">
                <a:moveTo>
                  <a:pt x="24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5" y="20200"/>
                </a:lnTo>
                <a:close/>
              </a:path>
              <a:path fill="lighten" w="24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85" h="21600">
                <a:moveTo>
                  <a:pt x="12292" y="3837"/>
                </a:moveTo>
                <a:lnTo>
                  <a:pt x="14869" y="6448"/>
                </a:lnTo>
                <a:lnTo>
                  <a:pt x="14869" y="4707"/>
                </a:lnTo>
                <a:lnTo>
                  <a:pt x="16644" y="4707"/>
                </a:lnTo>
                <a:lnTo>
                  <a:pt x="16644" y="8224"/>
                </a:lnTo>
                <a:lnTo>
                  <a:pt x="19255" y="10800"/>
                </a:lnTo>
                <a:lnTo>
                  <a:pt x="17602" y="10800"/>
                </a:lnTo>
                <a:lnTo>
                  <a:pt x="17602" y="17989"/>
                </a:lnTo>
                <a:lnTo>
                  <a:pt x="6983" y="17989"/>
                </a:lnTo>
                <a:lnTo>
                  <a:pt x="6983" y="10800"/>
                </a:lnTo>
                <a:lnTo>
                  <a:pt x="5329" y="10800"/>
                </a:lnTo>
                <a:close/>
              </a:path>
              <a:path fill="darkenLess" w="24585" h="21600">
                <a:moveTo>
                  <a:pt x="14869" y="6448"/>
                </a:moveTo>
                <a:lnTo>
                  <a:pt x="14869" y="4707"/>
                </a:lnTo>
                <a:lnTo>
                  <a:pt x="16644" y="4707"/>
                </a:lnTo>
                <a:lnTo>
                  <a:pt x="16644" y="8224"/>
                </a:lnTo>
                <a:close/>
              </a:path>
              <a:path fill="darkenLess" w="24585" h="21600">
                <a:moveTo>
                  <a:pt x="11370" y="14299"/>
                </a:moveTo>
                <a:lnTo>
                  <a:pt x="13215" y="14299"/>
                </a:lnTo>
                <a:lnTo>
                  <a:pt x="13215" y="17989"/>
                </a:lnTo>
                <a:lnTo>
                  <a:pt x="17602" y="17989"/>
                </a:lnTo>
                <a:lnTo>
                  <a:pt x="17602" y="10800"/>
                </a:lnTo>
                <a:lnTo>
                  <a:pt x="6983" y="10800"/>
                </a:lnTo>
                <a:lnTo>
                  <a:pt x="6983" y="17989"/>
                </a:lnTo>
                <a:lnTo>
                  <a:pt x="11370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740720" y="6381720"/>
            <a:ext cx="287280" cy="250920"/>
          </a:xfrm>
          <a:custGeom>
            <a:avLst/>
            <a:gdLst>
              <a:gd name="textAreaLeft" fmla="*/ 16200 w 287280"/>
              <a:gd name="textAreaRight" fmla="*/ 271080 w 2872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24726" h="21600">
                <a:moveTo>
                  <a:pt x="0" y="0"/>
                </a:moveTo>
                <a:lnTo>
                  <a:pt x="24726" y="0"/>
                </a:lnTo>
                <a:lnTo>
                  <a:pt x="24726" y="21600"/>
                </a:lnTo>
                <a:lnTo>
                  <a:pt x="0" y="21600"/>
                </a:lnTo>
                <a:close/>
              </a:path>
              <a:path fill="lightenLess" w="24726" h="21600">
                <a:moveTo>
                  <a:pt x="0" y="0"/>
                </a:moveTo>
                <a:lnTo>
                  <a:pt x="24726" y="0"/>
                </a:lnTo>
                <a:lnTo>
                  <a:pt x="23326" y="1400"/>
                </a:lnTo>
                <a:lnTo>
                  <a:pt x="1400" y="1400"/>
                </a:lnTo>
                <a:close/>
              </a:path>
              <a:path fill="darken" w="24726" h="21600">
                <a:moveTo>
                  <a:pt x="24726" y="0"/>
                </a:moveTo>
                <a:lnTo>
                  <a:pt x="24726" y="21600"/>
                </a:lnTo>
                <a:lnTo>
                  <a:pt x="23326" y="20200"/>
                </a:lnTo>
                <a:lnTo>
                  <a:pt x="23326" y="1400"/>
                </a:lnTo>
                <a:close/>
              </a:path>
              <a:path fill="darkenLess" w="24726" h="21600">
                <a:moveTo>
                  <a:pt x="24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26" y="20200"/>
                </a:lnTo>
                <a:close/>
              </a:path>
              <a:path fill="lighten" w="24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26" h="21600">
                <a:moveTo>
                  <a:pt x="5356" y="3794"/>
                </a:moveTo>
                <a:lnTo>
                  <a:pt x="19369" y="10800"/>
                </a:lnTo>
                <a:lnTo>
                  <a:pt x="5356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250920" y="6381720"/>
            <a:ext cx="288720" cy="260280"/>
          </a:xfrm>
          <a:custGeom>
            <a:avLst/>
            <a:gdLst>
              <a:gd name="textAreaLeft" fmla="*/ 16560 w 288720"/>
              <a:gd name="textAreaRight" fmla="*/ 272160 w 288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57" h="21600">
                <a:moveTo>
                  <a:pt x="0" y="0"/>
                </a:moveTo>
                <a:lnTo>
                  <a:pt x="23957" y="0"/>
                </a:lnTo>
                <a:lnTo>
                  <a:pt x="23957" y="21600"/>
                </a:lnTo>
                <a:lnTo>
                  <a:pt x="0" y="21600"/>
                </a:lnTo>
                <a:close/>
              </a:path>
              <a:path fill="lightenLess" w="23957" h="21600">
                <a:moveTo>
                  <a:pt x="0" y="0"/>
                </a:moveTo>
                <a:lnTo>
                  <a:pt x="23957" y="0"/>
                </a:lnTo>
                <a:lnTo>
                  <a:pt x="22557" y="1400"/>
                </a:lnTo>
                <a:lnTo>
                  <a:pt x="1400" y="1400"/>
                </a:lnTo>
                <a:close/>
              </a:path>
              <a:path fill="darken" w="23957" h="21600">
                <a:moveTo>
                  <a:pt x="23957" y="0"/>
                </a:moveTo>
                <a:lnTo>
                  <a:pt x="23957" y="21600"/>
                </a:lnTo>
                <a:lnTo>
                  <a:pt x="22557" y="20200"/>
                </a:lnTo>
                <a:lnTo>
                  <a:pt x="22557" y="1400"/>
                </a:lnTo>
                <a:close/>
              </a:path>
              <a:path fill="darkenLess" w="23957" h="21600">
                <a:moveTo>
                  <a:pt x="2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57" y="20200"/>
                </a:lnTo>
                <a:close/>
              </a:path>
              <a:path fill="lighten" w="2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57" h="21600">
                <a:moveTo>
                  <a:pt x="4972" y="10800"/>
                </a:moveTo>
                <a:lnTo>
                  <a:pt x="18985" y="3794"/>
                </a:lnTo>
                <a:lnTo>
                  <a:pt x="18985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6920" y="549360"/>
            <a:ext cx="396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нот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971640" y="1700280"/>
            <a:ext cx="2957400" cy="44226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3564000" y="479736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88E-3E0E-43E6-B24F-C361BE9969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A1A12-6C78-422A-AAD1-AD2B7B878BF4}" type="datetime1">
              <a:rPr lang="en-US"/>
              <a:t>07/31/26</a:t>
            </a:fld>
          </a:p>
        </p:txBody>
      </p:sp>
    </p:spTree>
  </p:cSld>
  <p:transition spd="med">
    <p:cover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72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72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368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нет аннотации можно посмотреть предисловие. Это статья, помещенная перед основным текстом книги. Из неё тоже можем узнать об авторе книги, её содержании, геро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8317080" y="6308640"/>
            <a:ext cx="287280" cy="252360"/>
          </a:xfrm>
          <a:custGeom>
            <a:avLst/>
            <a:gdLst>
              <a:gd name="textAreaLeft" fmla="*/ 16200 w 287280"/>
              <a:gd name="textAreaRight" fmla="*/ 271080 w 28728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4585" h="21600">
                <a:moveTo>
                  <a:pt x="0" y="0"/>
                </a:moveTo>
                <a:lnTo>
                  <a:pt x="24585" y="0"/>
                </a:lnTo>
                <a:lnTo>
                  <a:pt x="24585" y="21600"/>
                </a:lnTo>
                <a:lnTo>
                  <a:pt x="0" y="21600"/>
                </a:lnTo>
                <a:close/>
              </a:path>
              <a:path fill="lightenLess" w="24585" h="21600">
                <a:moveTo>
                  <a:pt x="0" y="0"/>
                </a:moveTo>
                <a:lnTo>
                  <a:pt x="24585" y="0"/>
                </a:lnTo>
                <a:lnTo>
                  <a:pt x="23185" y="1400"/>
                </a:lnTo>
                <a:lnTo>
                  <a:pt x="1400" y="1400"/>
                </a:lnTo>
                <a:close/>
              </a:path>
              <a:path fill="darken" w="24585" h="21600">
                <a:moveTo>
                  <a:pt x="24585" y="0"/>
                </a:moveTo>
                <a:lnTo>
                  <a:pt x="24585" y="21600"/>
                </a:lnTo>
                <a:lnTo>
                  <a:pt x="23185" y="20200"/>
                </a:lnTo>
                <a:lnTo>
                  <a:pt x="23185" y="1400"/>
                </a:lnTo>
                <a:close/>
              </a:path>
              <a:path fill="darkenLess" w="24585" h="21600">
                <a:moveTo>
                  <a:pt x="24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5" y="20200"/>
                </a:lnTo>
                <a:close/>
              </a:path>
              <a:path fill="lighten" w="24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85" h="21600">
                <a:moveTo>
                  <a:pt x="12292" y="3837"/>
                </a:moveTo>
                <a:lnTo>
                  <a:pt x="14869" y="6448"/>
                </a:lnTo>
                <a:lnTo>
                  <a:pt x="14869" y="4707"/>
                </a:lnTo>
                <a:lnTo>
                  <a:pt x="16644" y="4707"/>
                </a:lnTo>
                <a:lnTo>
                  <a:pt x="16644" y="8224"/>
                </a:lnTo>
                <a:lnTo>
                  <a:pt x="19255" y="10800"/>
                </a:lnTo>
                <a:lnTo>
                  <a:pt x="17602" y="10800"/>
                </a:lnTo>
                <a:lnTo>
                  <a:pt x="17602" y="17989"/>
                </a:lnTo>
                <a:lnTo>
                  <a:pt x="6983" y="17989"/>
                </a:lnTo>
                <a:lnTo>
                  <a:pt x="6983" y="10800"/>
                </a:lnTo>
                <a:lnTo>
                  <a:pt x="5329" y="10800"/>
                </a:lnTo>
                <a:close/>
              </a:path>
              <a:path fill="darkenLess" w="24585" h="21600">
                <a:moveTo>
                  <a:pt x="14869" y="6448"/>
                </a:moveTo>
                <a:lnTo>
                  <a:pt x="14869" y="4707"/>
                </a:lnTo>
                <a:lnTo>
                  <a:pt x="16644" y="4707"/>
                </a:lnTo>
                <a:lnTo>
                  <a:pt x="16644" y="8224"/>
                </a:lnTo>
                <a:close/>
              </a:path>
              <a:path fill="darkenLess" w="24585" h="21600">
                <a:moveTo>
                  <a:pt x="11370" y="14299"/>
                </a:moveTo>
                <a:lnTo>
                  <a:pt x="13215" y="14299"/>
                </a:lnTo>
                <a:lnTo>
                  <a:pt x="13215" y="17989"/>
                </a:lnTo>
                <a:lnTo>
                  <a:pt x="17602" y="17989"/>
                </a:lnTo>
                <a:lnTo>
                  <a:pt x="17602" y="10800"/>
                </a:lnTo>
                <a:lnTo>
                  <a:pt x="6983" y="10800"/>
                </a:lnTo>
                <a:lnTo>
                  <a:pt x="6983" y="17989"/>
                </a:lnTo>
                <a:lnTo>
                  <a:pt x="11370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7667640" y="630864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5004" y="3794"/>
                </a:moveTo>
                <a:lnTo>
                  <a:pt x="19017" y="10800"/>
                </a:lnTo>
                <a:lnTo>
                  <a:pt x="500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250920" y="6381720"/>
            <a:ext cx="288720" cy="260280"/>
          </a:xfrm>
          <a:custGeom>
            <a:avLst/>
            <a:gdLst>
              <a:gd name="textAreaLeft" fmla="*/ 16560 w 288720"/>
              <a:gd name="textAreaRight" fmla="*/ 272160 w 288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57" h="21600">
                <a:moveTo>
                  <a:pt x="0" y="0"/>
                </a:moveTo>
                <a:lnTo>
                  <a:pt x="23957" y="0"/>
                </a:lnTo>
                <a:lnTo>
                  <a:pt x="23957" y="21600"/>
                </a:lnTo>
                <a:lnTo>
                  <a:pt x="0" y="21600"/>
                </a:lnTo>
                <a:close/>
              </a:path>
              <a:path fill="lightenLess" w="23957" h="21600">
                <a:moveTo>
                  <a:pt x="0" y="0"/>
                </a:moveTo>
                <a:lnTo>
                  <a:pt x="23957" y="0"/>
                </a:lnTo>
                <a:lnTo>
                  <a:pt x="22557" y="1400"/>
                </a:lnTo>
                <a:lnTo>
                  <a:pt x="1400" y="1400"/>
                </a:lnTo>
                <a:close/>
              </a:path>
              <a:path fill="darken" w="23957" h="21600">
                <a:moveTo>
                  <a:pt x="23957" y="0"/>
                </a:moveTo>
                <a:lnTo>
                  <a:pt x="23957" y="21600"/>
                </a:lnTo>
                <a:lnTo>
                  <a:pt x="22557" y="20200"/>
                </a:lnTo>
                <a:lnTo>
                  <a:pt x="22557" y="1400"/>
                </a:lnTo>
                <a:close/>
              </a:path>
              <a:path fill="darkenLess" w="23957" h="21600">
                <a:moveTo>
                  <a:pt x="2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57" y="20200"/>
                </a:lnTo>
                <a:close/>
              </a:path>
              <a:path fill="lighten" w="2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57" h="21600">
                <a:moveTo>
                  <a:pt x="4972" y="10800"/>
                </a:moveTo>
                <a:lnTo>
                  <a:pt x="18985" y="3794"/>
                </a:lnTo>
                <a:lnTo>
                  <a:pt x="18985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908000" y="765000"/>
            <a:ext cx="4392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исловие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5238720" y="1981080"/>
            <a:ext cx="3052800" cy="41148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C52-99AC-4C39-A92A-BAB3D446FC1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10234-21B6-487A-972C-727EE0877FFC}" type="datetime1">
              <a:rPr lang="en-US"/>
              <a:t>07/31/26</a:t>
            </a:fld>
          </a:p>
        </p:txBody>
      </p:sp>
    </p:spTree>
  </p:cSld>
  <p:transition spd="med">
    <p:cover dir="u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6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мотрите на последние странички книги. Там, всегда помещается ОГЛАВЛЕНИЕ. Его ещё называют СОДЕРЖА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нем перечисляются название глав, которые есть в книге, и указываются страницы, на которых можно найти начало гла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8317080" y="6308640"/>
            <a:ext cx="358560" cy="252360"/>
          </a:xfrm>
          <a:custGeom>
            <a:avLst/>
            <a:gdLst>
              <a:gd name="textAreaLeft" fmla="*/ 16200 w 358560"/>
              <a:gd name="textAreaRight" fmla="*/ 342360 w 3585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677" h="21600">
                <a:moveTo>
                  <a:pt x="0" y="0"/>
                </a:moveTo>
                <a:lnTo>
                  <a:pt x="30677" y="0"/>
                </a:lnTo>
                <a:lnTo>
                  <a:pt x="30677" y="21600"/>
                </a:lnTo>
                <a:lnTo>
                  <a:pt x="0" y="21600"/>
                </a:lnTo>
                <a:close/>
              </a:path>
              <a:path fill="lightenLess" w="30677" h="21600">
                <a:moveTo>
                  <a:pt x="0" y="0"/>
                </a:moveTo>
                <a:lnTo>
                  <a:pt x="30677" y="0"/>
                </a:lnTo>
                <a:lnTo>
                  <a:pt x="29277" y="1400"/>
                </a:lnTo>
                <a:lnTo>
                  <a:pt x="1400" y="1400"/>
                </a:lnTo>
                <a:close/>
              </a:path>
              <a:path fill="darken" w="30677" h="21600">
                <a:moveTo>
                  <a:pt x="30677" y="0"/>
                </a:moveTo>
                <a:lnTo>
                  <a:pt x="30677" y="21600"/>
                </a:lnTo>
                <a:lnTo>
                  <a:pt x="29277" y="20200"/>
                </a:lnTo>
                <a:lnTo>
                  <a:pt x="29277" y="1400"/>
                </a:lnTo>
                <a:close/>
              </a:path>
              <a:path fill="darkenLess" w="30677" h="21600">
                <a:moveTo>
                  <a:pt x="30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77" y="20200"/>
                </a:lnTo>
                <a:close/>
              </a:path>
              <a:path fill="lighten" w="30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77" h="21600">
                <a:moveTo>
                  <a:pt x="15338" y="3837"/>
                </a:moveTo>
                <a:lnTo>
                  <a:pt x="17915" y="6448"/>
                </a:lnTo>
                <a:lnTo>
                  <a:pt x="17915" y="4707"/>
                </a:lnTo>
                <a:lnTo>
                  <a:pt x="19690" y="4707"/>
                </a:lnTo>
                <a:lnTo>
                  <a:pt x="19690" y="8224"/>
                </a:lnTo>
                <a:lnTo>
                  <a:pt x="22301" y="10800"/>
                </a:lnTo>
                <a:lnTo>
                  <a:pt x="20648" y="10800"/>
                </a:lnTo>
                <a:lnTo>
                  <a:pt x="20648" y="17989"/>
                </a:lnTo>
                <a:lnTo>
                  <a:pt x="10029" y="17989"/>
                </a:lnTo>
                <a:lnTo>
                  <a:pt x="10029" y="10800"/>
                </a:lnTo>
                <a:lnTo>
                  <a:pt x="8375" y="10800"/>
                </a:lnTo>
                <a:close/>
              </a:path>
              <a:path fill="darkenLess" w="30677" h="21600">
                <a:moveTo>
                  <a:pt x="17915" y="6448"/>
                </a:moveTo>
                <a:lnTo>
                  <a:pt x="17915" y="4707"/>
                </a:lnTo>
                <a:lnTo>
                  <a:pt x="19690" y="4707"/>
                </a:lnTo>
                <a:lnTo>
                  <a:pt x="19690" y="8224"/>
                </a:lnTo>
                <a:close/>
              </a:path>
              <a:path fill="darkenLess" w="30677" h="21600">
                <a:moveTo>
                  <a:pt x="14416" y="14299"/>
                </a:moveTo>
                <a:lnTo>
                  <a:pt x="16261" y="14299"/>
                </a:lnTo>
                <a:lnTo>
                  <a:pt x="16261" y="17989"/>
                </a:lnTo>
                <a:lnTo>
                  <a:pt x="20648" y="17989"/>
                </a:lnTo>
                <a:lnTo>
                  <a:pt x="20648" y="10800"/>
                </a:lnTo>
                <a:lnTo>
                  <a:pt x="10029" y="10800"/>
                </a:lnTo>
                <a:lnTo>
                  <a:pt x="10029" y="17989"/>
                </a:lnTo>
                <a:lnTo>
                  <a:pt x="14416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7667640" y="630864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5004" y="3794"/>
                </a:moveTo>
                <a:lnTo>
                  <a:pt x="19017" y="10800"/>
                </a:lnTo>
                <a:lnTo>
                  <a:pt x="500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250920" y="6308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55640" y="476280"/>
            <a:ext cx="403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лавление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26920" y="1628640"/>
            <a:ext cx="3246480" cy="45309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941-C1D2-40DE-AE26-CA3304E6B3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1A3A7-5958-4005-88AC-D0D498462117}" type="datetime1">
              <a:rPr lang="en-US"/>
              <a:t>07/31/26</a:t>
            </a:fld>
          </a:p>
        </p:txBody>
      </p:sp>
    </p:spTree>
  </p:cSld>
  <p:transition spd="med">
    <p:cover dir="r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76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76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ногда в тексте книг встречаются непонятные слова. Они помечаются звездочками или маленькими цифрами. Значение их или объяснения можно поискать внизу страницы. Это называется СНОС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ли в конце книги размещается словарик, который и объясняет смысл непонятных с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549360"/>
            <a:ext cx="36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ик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>
            <a:lum contrast="-30000"/>
          </a:blip>
          <a:stretch/>
        </p:blipFill>
        <p:spPr>
          <a:xfrm>
            <a:off x="5143680" y="836640"/>
            <a:ext cx="3236760" cy="52592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250920" y="6308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7667640" y="630864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5004" y="3794"/>
                </a:moveTo>
                <a:lnTo>
                  <a:pt x="19017" y="10800"/>
                </a:lnTo>
                <a:lnTo>
                  <a:pt x="500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17080" y="6308640"/>
            <a:ext cx="358560" cy="252360"/>
          </a:xfrm>
          <a:custGeom>
            <a:avLst/>
            <a:gdLst>
              <a:gd name="textAreaLeft" fmla="*/ 16200 w 358560"/>
              <a:gd name="textAreaRight" fmla="*/ 342360 w 3585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677" h="21600">
                <a:moveTo>
                  <a:pt x="0" y="0"/>
                </a:moveTo>
                <a:lnTo>
                  <a:pt x="30677" y="0"/>
                </a:lnTo>
                <a:lnTo>
                  <a:pt x="30677" y="21600"/>
                </a:lnTo>
                <a:lnTo>
                  <a:pt x="0" y="21600"/>
                </a:lnTo>
                <a:close/>
              </a:path>
              <a:path fill="lightenLess" w="30677" h="21600">
                <a:moveTo>
                  <a:pt x="0" y="0"/>
                </a:moveTo>
                <a:lnTo>
                  <a:pt x="30677" y="0"/>
                </a:lnTo>
                <a:lnTo>
                  <a:pt x="29277" y="1400"/>
                </a:lnTo>
                <a:lnTo>
                  <a:pt x="1400" y="1400"/>
                </a:lnTo>
                <a:close/>
              </a:path>
              <a:path fill="darken" w="30677" h="21600">
                <a:moveTo>
                  <a:pt x="30677" y="0"/>
                </a:moveTo>
                <a:lnTo>
                  <a:pt x="30677" y="21600"/>
                </a:lnTo>
                <a:lnTo>
                  <a:pt x="29277" y="20200"/>
                </a:lnTo>
                <a:lnTo>
                  <a:pt x="29277" y="1400"/>
                </a:lnTo>
                <a:close/>
              </a:path>
              <a:path fill="darkenLess" w="30677" h="21600">
                <a:moveTo>
                  <a:pt x="30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77" y="20200"/>
                </a:lnTo>
                <a:close/>
              </a:path>
              <a:path fill="lighten" w="30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77" h="21600">
                <a:moveTo>
                  <a:pt x="15338" y="3837"/>
                </a:moveTo>
                <a:lnTo>
                  <a:pt x="17915" y="6448"/>
                </a:lnTo>
                <a:lnTo>
                  <a:pt x="17915" y="4707"/>
                </a:lnTo>
                <a:lnTo>
                  <a:pt x="19690" y="4707"/>
                </a:lnTo>
                <a:lnTo>
                  <a:pt x="19690" y="8224"/>
                </a:lnTo>
                <a:lnTo>
                  <a:pt x="22301" y="10800"/>
                </a:lnTo>
                <a:lnTo>
                  <a:pt x="20648" y="10800"/>
                </a:lnTo>
                <a:lnTo>
                  <a:pt x="20648" y="17989"/>
                </a:lnTo>
                <a:lnTo>
                  <a:pt x="10029" y="17989"/>
                </a:lnTo>
                <a:lnTo>
                  <a:pt x="10029" y="10800"/>
                </a:lnTo>
                <a:lnTo>
                  <a:pt x="8375" y="10800"/>
                </a:lnTo>
                <a:close/>
              </a:path>
              <a:path fill="darkenLess" w="30677" h="21600">
                <a:moveTo>
                  <a:pt x="17915" y="6448"/>
                </a:moveTo>
                <a:lnTo>
                  <a:pt x="17915" y="4707"/>
                </a:lnTo>
                <a:lnTo>
                  <a:pt x="19690" y="4707"/>
                </a:lnTo>
                <a:lnTo>
                  <a:pt x="19690" y="8224"/>
                </a:lnTo>
                <a:close/>
              </a:path>
              <a:path fill="darkenLess" w="30677" h="21600">
                <a:moveTo>
                  <a:pt x="14416" y="14299"/>
                </a:moveTo>
                <a:lnTo>
                  <a:pt x="16261" y="14299"/>
                </a:lnTo>
                <a:lnTo>
                  <a:pt x="16261" y="17989"/>
                </a:lnTo>
                <a:lnTo>
                  <a:pt x="20648" y="17989"/>
                </a:lnTo>
                <a:lnTo>
                  <a:pt x="20648" y="10800"/>
                </a:lnTo>
                <a:lnTo>
                  <a:pt x="10029" y="10800"/>
                </a:lnTo>
                <a:lnTo>
                  <a:pt x="10029" y="17989"/>
                </a:lnTo>
                <a:lnTo>
                  <a:pt x="14416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C58-7999-407E-BFF6-26A917D44D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B77D3-8F8F-4E09-82F4-39C4ECE77886}" type="datetime1">
              <a:rPr lang="en-US"/>
              <a:t>07/31/26</a:t>
            </a:fld>
          </a:p>
        </p:txBody>
      </p:sp>
    </p:spTree>
  </p:cSld>
  <p:transition spd="med">
    <p:checker dir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40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28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т как много  у нас с вами помощников при выборе книги и чтении кни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вайте повторим, какие элементы книги мы зна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ветьте на вопрос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Для чего нужна суперобложк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Как называется первый лист книг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О чем может рассказать титульный лист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Какую роль играют в книге иллюстраци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Где можно найти объяснения непонятным словам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 Что такое аннотац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. Какие бывают обложк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250920" y="6308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7667640" y="630864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5004" y="3794"/>
                </a:moveTo>
                <a:lnTo>
                  <a:pt x="19017" y="10800"/>
                </a:lnTo>
                <a:lnTo>
                  <a:pt x="500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8317080" y="6308640"/>
            <a:ext cx="358560" cy="252360"/>
          </a:xfrm>
          <a:custGeom>
            <a:avLst/>
            <a:gdLst>
              <a:gd name="textAreaLeft" fmla="*/ 16200 w 358560"/>
              <a:gd name="textAreaRight" fmla="*/ 342360 w 3585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677" h="21600">
                <a:moveTo>
                  <a:pt x="0" y="0"/>
                </a:moveTo>
                <a:lnTo>
                  <a:pt x="30677" y="0"/>
                </a:lnTo>
                <a:lnTo>
                  <a:pt x="30677" y="21600"/>
                </a:lnTo>
                <a:lnTo>
                  <a:pt x="0" y="21600"/>
                </a:lnTo>
                <a:close/>
              </a:path>
              <a:path fill="lightenLess" w="30677" h="21600">
                <a:moveTo>
                  <a:pt x="0" y="0"/>
                </a:moveTo>
                <a:lnTo>
                  <a:pt x="30677" y="0"/>
                </a:lnTo>
                <a:lnTo>
                  <a:pt x="29277" y="1400"/>
                </a:lnTo>
                <a:lnTo>
                  <a:pt x="1400" y="1400"/>
                </a:lnTo>
                <a:close/>
              </a:path>
              <a:path fill="darken" w="30677" h="21600">
                <a:moveTo>
                  <a:pt x="30677" y="0"/>
                </a:moveTo>
                <a:lnTo>
                  <a:pt x="30677" y="21600"/>
                </a:lnTo>
                <a:lnTo>
                  <a:pt x="29277" y="20200"/>
                </a:lnTo>
                <a:lnTo>
                  <a:pt x="29277" y="1400"/>
                </a:lnTo>
                <a:close/>
              </a:path>
              <a:path fill="darkenLess" w="30677" h="21600">
                <a:moveTo>
                  <a:pt x="30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77" y="20200"/>
                </a:lnTo>
                <a:close/>
              </a:path>
              <a:path fill="lighten" w="30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77" h="21600">
                <a:moveTo>
                  <a:pt x="15338" y="3837"/>
                </a:moveTo>
                <a:lnTo>
                  <a:pt x="17915" y="6448"/>
                </a:lnTo>
                <a:lnTo>
                  <a:pt x="17915" y="4707"/>
                </a:lnTo>
                <a:lnTo>
                  <a:pt x="19690" y="4707"/>
                </a:lnTo>
                <a:lnTo>
                  <a:pt x="19690" y="8224"/>
                </a:lnTo>
                <a:lnTo>
                  <a:pt x="22301" y="10800"/>
                </a:lnTo>
                <a:lnTo>
                  <a:pt x="20648" y="10800"/>
                </a:lnTo>
                <a:lnTo>
                  <a:pt x="20648" y="17989"/>
                </a:lnTo>
                <a:lnTo>
                  <a:pt x="10029" y="17989"/>
                </a:lnTo>
                <a:lnTo>
                  <a:pt x="10029" y="10800"/>
                </a:lnTo>
                <a:lnTo>
                  <a:pt x="8375" y="10800"/>
                </a:lnTo>
                <a:close/>
              </a:path>
              <a:path fill="darkenLess" w="30677" h="21600">
                <a:moveTo>
                  <a:pt x="17915" y="6448"/>
                </a:moveTo>
                <a:lnTo>
                  <a:pt x="17915" y="4707"/>
                </a:lnTo>
                <a:lnTo>
                  <a:pt x="19690" y="4707"/>
                </a:lnTo>
                <a:lnTo>
                  <a:pt x="19690" y="8224"/>
                </a:lnTo>
                <a:close/>
              </a:path>
              <a:path fill="darkenLess" w="30677" h="21600">
                <a:moveTo>
                  <a:pt x="14416" y="14299"/>
                </a:moveTo>
                <a:lnTo>
                  <a:pt x="16261" y="14299"/>
                </a:lnTo>
                <a:lnTo>
                  <a:pt x="16261" y="17989"/>
                </a:lnTo>
                <a:lnTo>
                  <a:pt x="20648" y="17989"/>
                </a:lnTo>
                <a:lnTo>
                  <a:pt x="20648" y="10800"/>
                </a:lnTo>
                <a:lnTo>
                  <a:pt x="10029" y="10800"/>
                </a:lnTo>
                <a:lnTo>
                  <a:pt x="10029" y="17989"/>
                </a:lnTo>
                <a:lnTo>
                  <a:pt x="14416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2EE-0D45-4D32-BBAA-F17753FB5EA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A6DAC-4440-4B37-AAE8-2D3B7FE53D11}" type="datetime1">
              <a:rPr lang="en-US"/>
              <a:t>07/31/26</a:t>
            </a:fld>
          </a:p>
        </p:txBody>
      </p:sp>
    </p:spTree>
  </p:cSld>
  <p:transition spd="med">
    <p:checker dir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0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320" y="4653000"/>
            <a:ext cx="75438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в.библиотек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У Шунгенской средней школы Терентьева Г.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AC0-4489-4C8F-828A-AB0B935E728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E52F4-FC03-4755-A5EB-B89796504A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404640"/>
            <a:ext cx="444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нига- учитель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нига – наставник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нига – бесцен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варищ и дру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м, как ручей, высыхает 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ритс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ты выпустишь книг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ру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В.Боков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49920" y="3446640"/>
            <a:ext cx="2550960" cy="263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6E2-7D49-47A0-BBCE-E10E5087F9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33BCD-BD3F-47C3-9695-BAD2E2860D1D}" type="datetime1">
              <a:rPr lang="en-US"/>
              <a:t>07/31/26</a:t>
            </a:fld>
          </a:p>
        </p:txBody>
      </p:sp>
    </p:spTree>
  </p:cSld>
  <p:transition spd="med" advTm="5000">
    <p:cover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лож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900" spc="-1" strike="noStrike" u="sng">
                <a:solidFill>
                  <a:srgbClr val="009900"/>
                </a:solidFill>
                <a:uFillTx/>
                <a:latin typeface="Tahoma"/>
                <a:hlinkClick r:id="rId1" action="ppaction://hlinksldjump"/>
              </a:rPr>
              <a:t>мягкая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9900"/>
                </a:solidFill>
                <a:uFillTx/>
                <a:latin typeface="Tahoma"/>
                <a:hlinkClick r:id="rId2" action="ppaction://hlinksldjump"/>
              </a:rPr>
              <a:t>переплет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9900"/>
                </a:solidFill>
                <a:uFillTx/>
                <a:latin typeface="Tahoma"/>
                <a:hlinkClick r:id="rId3" action="ppaction://hlinksldjump"/>
              </a:rPr>
              <a:t>Суперобложка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ллюстр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итульный лис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нотац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ислов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гл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оварь устаревших с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просы для закрепления материа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765000"/>
            <a:ext cx="46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лавление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250920" y="6453360"/>
            <a:ext cx="288720" cy="188640"/>
          </a:xfrm>
          <a:custGeom>
            <a:avLst/>
            <a:gdLst>
              <a:gd name="textAreaLeft" fmla="*/ 12240 w 288720"/>
              <a:gd name="textAreaRight" fmla="*/ 276480 w 28872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33038" h="21600">
                <a:moveTo>
                  <a:pt x="0" y="0"/>
                </a:moveTo>
                <a:lnTo>
                  <a:pt x="33038" y="0"/>
                </a:lnTo>
                <a:lnTo>
                  <a:pt x="33038" y="21600"/>
                </a:lnTo>
                <a:lnTo>
                  <a:pt x="0" y="21600"/>
                </a:lnTo>
                <a:close/>
              </a:path>
              <a:path fill="lightenLess" w="33038" h="21600">
                <a:moveTo>
                  <a:pt x="0" y="0"/>
                </a:moveTo>
                <a:lnTo>
                  <a:pt x="33038" y="0"/>
                </a:lnTo>
                <a:lnTo>
                  <a:pt x="31638" y="1400"/>
                </a:lnTo>
                <a:lnTo>
                  <a:pt x="1400" y="1400"/>
                </a:lnTo>
                <a:close/>
              </a:path>
              <a:path fill="darken" w="33038" h="21600">
                <a:moveTo>
                  <a:pt x="33038" y="0"/>
                </a:moveTo>
                <a:lnTo>
                  <a:pt x="33038" y="21600"/>
                </a:lnTo>
                <a:lnTo>
                  <a:pt x="31638" y="20200"/>
                </a:lnTo>
                <a:lnTo>
                  <a:pt x="31638" y="1400"/>
                </a:lnTo>
                <a:close/>
              </a:path>
              <a:path fill="darkenLess" w="33038" h="21600">
                <a:moveTo>
                  <a:pt x="3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38" y="20200"/>
                </a:lnTo>
                <a:close/>
              </a:path>
              <a:path fill="lighten" w="3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38" h="21600">
                <a:moveTo>
                  <a:pt x="9512" y="10800"/>
                </a:moveTo>
                <a:lnTo>
                  <a:pt x="23525" y="3794"/>
                </a:lnTo>
                <a:lnTo>
                  <a:pt x="23525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956720" y="6308640"/>
            <a:ext cx="358560" cy="324000"/>
          </a:xfrm>
          <a:custGeom>
            <a:avLst/>
            <a:gdLst>
              <a:gd name="textAreaLeft" fmla="*/ 20880 w 358560"/>
              <a:gd name="textAreaRight" fmla="*/ 337680 w 3585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3901" h="21600">
                <a:moveTo>
                  <a:pt x="0" y="0"/>
                </a:moveTo>
                <a:lnTo>
                  <a:pt x="23901" y="0"/>
                </a:lnTo>
                <a:lnTo>
                  <a:pt x="23901" y="21600"/>
                </a:lnTo>
                <a:lnTo>
                  <a:pt x="0" y="21600"/>
                </a:lnTo>
                <a:close/>
              </a:path>
              <a:path fill="lightenLess" w="23901" h="21600">
                <a:moveTo>
                  <a:pt x="0" y="0"/>
                </a:moveTo>
                <a:lnTo>
                  <a:pt x="23901" y="0"/>
                </a:lnTo>
                <a:lnTo>
                  <a:pt x="22501" y="1400"/>
                </a:lnTo>
                <a:lnTo>
                  <a:pt x="1400" y="1400"/>
                </a:lnTo>
                <a:close/>
              </a:path>
              <a:path fill="darken" w="23901" h="21600">
                <a:moveTo>
                  <a:pt x="23901" y="0"/>
                </a:moveTo>
                <a:lnTo>
                  <a:pt x="23901" y="21600"/>
                </a:lnTo>
                <a:lnTo>
                  <a:pt x="22501" y="20200"/>
                </a:lnTo>
                <a:lnTo>
                  <a:pt x="22501" y="1400"/>
                </a:lnTo>
                <a:close/>
              </a:path>
              <a:path fill="darkenLess" w="23901" h="21600">
                <a:moveTo>
                  <a:pt x="2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01" y="20200"/>
                </a:lnTo>
                <a:close/>
              </a:path>
              <a:path fill="lighten" w="2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01" h="21600">
                <a:moveTo>
                  <a:pt x="4944" y="3794"/>
                </a:moveTo>
                <a:lnTo>
                  <a:pt x="18957" y="10800"/>
                </a:lnTo>
                <a:lnTo>
                  <a:pt x="494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780-2AD9-461B-8361-7ECCFBB503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38EE2-91AE-4F3F-89E2-51B5D2B28B6D}" type="datetime1">
              <a:rPr lang="en-US"/>
              <a:t>07/31/26</a:t>
            </a:fld>
          </a:p>
        </p:txBody>
      </p:sp>
    </p:spTree>
  </p:cSld>
  <p:transition spd="med">
    <p:cover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 мы можем узнать глядя на ОБЛОЖК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Правильно, как называется книга, и кто её авто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8028000" y="6381720"/>
            <a:ext cx="358920" cy="252360"/>
          </a:xfrm>
          <a:custGeom>
            <a:avLst/>
            <a:gdLst>
              <a:gd name="textAreaLeft" fmla="*/ 16200 w 358920"/>
              <a:gd name="textAreaRight" fmla="*/ 342720 w 3589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708" h="21600">
                <a:moveTo>
                  <a:pt x="0" y="0"/>
                </a:moveTo>
                <a:lnTo>
                  <a:pt x="30708" y="0"/>
                </a:lnTo>
                <a:lnTo>
                  <a:pt x="30708" y="21600"/>
                </a:lnTo>
                <a:lnTo>
                  <a:pt x="0" y="21600"/>
                </a:lnTo>
                <a:close/>
              </a:path>
              <a:path fill="lightenLess" w="30708" h="21600">
                <a:moveTo>
                  <a:pt x="0" y="0"/>
                </a:moveTo>
                <a:lnTo>
                  <a:pt x="30708" y="0"/>
                </a:lnTo>
                <a:lnTo>
                  <a:pt x="29308" y="1400"/>
                </a:lnTo>
                <a:lnTo>
                  <a:pt x="1400" y="1400"/>
                </a:lnTo>
                <a:close/>
              </a:path>
              <a:path fill="darken" w="30708" h="21600">
                <a:moveTo>
                  <a:pt x="30708" y="0"/>
                </a:moveTo>
                <a:lnTo>
                  <a:pt x="30708" y="21600"/>
                </a:lnTo>
                <a:lnTo>
                  <a:pt x="29308" y="20200"/>
                </a:lnTo>
                <a:lnTo>
                  <a:pt x="29308" y="1400"/>
                </a:lnTo>
                <a:close/>
              </a:path>
              <a:path fill="darkenLess" w="30708" h="21600">
                <a:moveTo>
                  <a:pt x="30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08" y="20200"/>
                </a:lnTo>
                <a:close/>
              </a:path>
              <a:path fill="lighten" w="30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08" h="21600">
                <a:moveTo>
                  <a:pt x="15354" y="3837"/>
                </a:moveTo>
                <a:lnTo>
                  <a:pt x="17930" y="6448"/>
                </a:lnTo>
                <a:lnTo>
                  <a:pt x="17930" y="4707"/>
                </a:lnTo>
                <a:lnTo>
                  <a:pt x="19706" y="4707"/>
                </a:lnTo>
                <a:lnTo>
                  <a:pt x="19706" y="8224"/>
                </a:lnTo>
                <a:lnTo>
                  <a:pt x="22317" y="10800"/>
                </a:lnTo>
                <a:lnTo>
                  <a:pt x="20663" y="10800"/>
                </a:lnTo>
                <a:lnTo>
                  <a:pt x="20663" y="17989"/>
                </a:lnTo>
                <a:lnTo>
                  <a:pt x="10045" y="17989"/>
                </a:lnTo>
                <a:lnTo>
                  <a:pt x="10045" y="10800"/>
                </a:lnTo>
                <a:lnTo>
                  <a:pt x="8391" y="10800"/>
                </a:lnTo>
                <a:close/>
              </a:path>
              <a:path fill="darkenLess" w="30708" h="21600">
                <a:moveTo>
                  <a:pt x="17930" y="6448"/>
                </a:moveTo>
                <a:lnTo>
                  <a:pt x="17930" y="4707"/>
                </a:lnTo>
                <a:lnTo>
                  <a:pt x="19706" y="4707"/>
                </a:lnTo>
                <a:lnTo>
                  <a:pt x="19706" y="8224"/>
                </a:lnTo>
                <a:close/>
              </a:path>
              <a:path fill="darkenLess" w="30708" h="21600">
                <a:moveTo>
                  <a:pt x="14431" y="14299"/>
                </a:moveTo>
                <a:lnTo>
                  <a:pt x="16276" y="14299"/>
                </a:lnTo>
                <a:lnTo>
                  <a:pt x="16276" y="17989"/>
                </a:lnTo>
                <a:lnTo>
                  <a:pt x="20663" y="17989"/>
                </a:lnTo>
                <a:lnTo>
                  <a:pt x="20663" y="10800"/>
                </a:lnTo>
                <a:lnTo>
                  <a:pt x="10045" y="10800"/>
                </a:lnTo>
                <a:lnTo>
                  <a:pt x="10045" y="17989"/>
                </a:lnTo>
                <a:lnTo>
                  <a:pt x="14431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667640" y="6381720"/>
            <a:ext cx="360360" cy="25092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31007" h="21600">
                <a:moveTo>
                  <a:pt x="0" y="0"/>
                </a:moveTo>
                <a:lnTo>
                  <a:pt x="31007" y="0"/>
                </a:lnTo>
                <a:lnTo>
                  <a:pt x="31007" y="21600"/>
                </a:lnTo>
                <a:lnTo>
                  <a:pt x="0" y="21600"/>
                </a:lnTo>
                <a:close/>
              </a:path>
              <a:path fill="lightenLess" w="31007" h="21600">
                <a:moveTo>
                  <a:pt x="0" y="0"/>
                </a:moveTo>
                <a:lnTo>
                  <a:pt x="31007" y="0"/>
                </a:lnTo>
                <a:lnTo>
                  <a:pt x="29607" y="1400"/>
                </a:lnTo>
                <a:lnTo>
                  <a:pt x="1400" y="1400"/>
                </a:lnTo>
                <a:close/>
              </a:path>
              <a:path fill="darken" w="31007" h="21600">
                <a:moveTo>
                  <a:pt x="31007" y="0"/>
                </a:moveTo>
                <a:lnTo>
                  <a:pt x="31007" y="21600"/>
                </a:lnTo>
                <a:lnTo>
                  <a:pt x="29607" y="20200"/>
                </a:lnTo>
                <a:lnTo>
                  <a:pt x="29607" y="1400"/>
                </a:lnTo>
                <a:close/>
              </a:path>
              <a:path fill="darkenLess" w="31007" h="21600">
                <a:moveTo>
                  <a:pt x="31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07" y="20200"/>
                </a:lnTo>
                <a:close/>
              </a:path>
              <a:path fill="lighten" w="31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07" h="21600">
                <a:moveTo>
                  <a:pt x="8497" y="3794"/>
                </a:moveTo>
                <a:lnTo>
                  <a:pt x="22510" y="10800"/>
                </a:lnTo>
                <a:lnTo>
                  <a:pt x="8497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250920" y="6381720"/>
            <a:ext cx="288720" cy="260280"/>
          </a:xfrm>
          <a:custGeom>
            <a:avLst/>
            <a:gdLst>
              <a:gd name="textAreaLeft" fmla="*/ 16560 w 288720"/>
              <a:gd name="textAreaRight" fmla="*/ 272160 w 288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57" h="21600">
                <a:moveTo>
                  <a:pt x="0" y="0"/>
                </a:moveTo>
                <a:lnTo>
                  <a:pt x="23957" y="0"/>
                </a:lnTo>
                <a:lnTo>
                  <a:pt x="23957" y="21600"/>
                </a:lnTo>
                <a:lnTo>
                  <a:pt x="0" y="21600"/>
                </a:lnTo>
                <a:close/>
              </a:path>
              <a:path fill="lightenLess" w="23957" h="21600">
                <a:moveTo>
                  <a:pt x="0" y="0"/>
                </a:moveTo>
                <a:lnTo>
                  <a:pt x="23957" y="0"/>
                </a:lnTo>
                <a:lnTo>
                  <a:pt x="22557" y="1400"/>
                </a:lnTo>
                <a:lnTo>
                  <a:pt x="1400" y="1400"/>
                </a:lnTo>
                <a:close/>
              </a:path>
              <a:path fill="darken" w="23957" h="21600">
                <a:moveTo>
                  <a:pt x="23957" y="0"/>
                </a:moveTo>
                <a:lnTo>
                  <a:pt x="23957" y="21600"/>
                </a:lnTo>
                <a:lnTo>
                  <a:pt x="22557" y="20200"/>
                </a:lnTo>
                <a:lnTo>
                  <a:pt x="22557" y="1400"/>
                </a:lnTo>
                <a:close/>
              </a:path>
              <a:path fill="darkenLess" w="23957" h="21600">
                <a:moveTo>
                  <a:pt x="2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57" y="20200"/>
                </a:lnTo>
                <a:close/>
              </a:path>
              <a:path fill="lighten" w="2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57" h="21600">
                <a:moveTo>
                  <a:pt x="4972" y="10800"/>
                </a:moveTo>
                <a:lnTo>
                  <a:pt x="18985" y="3794"/>
                </a:lnTo>
                <a:lnTo>
                  <a:pt x="18985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009960" cy="41148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129" name=""/>
          <p:cNvSpPr txBox="1"/>
          <p:nvPr/>
        </p:nvSpPr>
        <p:spPr>
          <a:xfrm>
            <a:off x="2124000" y="260280"/>
            <a:ext cx="489600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ложка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3F1-08BC-447A-9732-3C2807F9A1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9E9AB-73C8-47A5-9962-CC9A1D8328FA}" type="datetime1">
              <a:rPr lang="en-US"/>
              <a:t>07/31/26</a:t>
            </a:fld>
          </a:p>
        </p:txBody>
      </p:sp>
    </p:spTree>
  </p:cSld>
  <p:transition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921200" y="1981080"/>
            <a:ext cx="36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С чего начинается книг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С облож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на бывает мягкой и называется «ОБЛОЖ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101080" y="6308640"/>
            <a:ext cx="287280" cy="252360"/>
          </a:xfrm>
          <a:custGeom>
            <a:avLst/>
            <a:gdLst>
              <a:gd name="textAreaLeft" fmla="*/ 16200 w 287280"/>
              <a:gd name="textAreaRight" fmla="*/ 271080 w 28728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4585" h="21600">
                <a:moveTo>
                  <a:pt x="0" y="0"/>
                </a:moveTo>
                <a:lnTo>
                  <a:pt x="24585" y="0"/>
                </a:lnTo>
                <a:lnTo>
                  <a:pt x="24585" y="21600"/>
                </a:lnTo>
                <a:lnTo>
                  <a:pt x="0" y="21600"/>
                </a:lnTo>
                <a:close/>
              </a:path>
              <a:path fill="lightenLess" w="24585" h="21600">
                <a:moveTo>
                  <a:pt x="0" y="0"/>
                </a:moveTo>
                <a:lnTo>
                  <a:pt x="24585" y="0"/>
                </a:lnTo>
                <a:lnTo>
                  <a:pt x="23185" y="1400"/>
                </a:lnTo>
                <a:lnTo>
                  <a:pt x="1400" y="1400"/>
                </a:lnTo>
                <a:close/>
              </a:path>
              <a:path fill="darken" w="24585" h="21600">
                <a:moveTo>
                  <a:pt x="24585" y="0"/>
                </a:moveTo>
                <a:lnTo>
                  <a:pt x="24585" y="21600"/>
                </a:lnTo>
                <a:lnTo>
                  <a:pt x="23185" y="20200"/>
                </a:lnTo>
                <a:lnTo>
                  <a:pt x="23185" y="1400"/>
                </a:lnTo>
                <a:close/>
              </a:path>
              <a:path fill="darkenLess" w="24585" h="21600">
                <a:moveTo>
                  <a:pt x="24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5" y="20200"/>
                </a:lnTo>
                <a:close/>
              </a:path>
              <a:path fill="lighten" w="24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85" h="21600">
                <a:moveTo>
                  <a:pt x="12292" y="3837"/>
                </a:moveTo>
                <a:lnTo>
                  <a:pt x="14869" y="6448"/>
                </a:lnTo>
                <a:lnTo>
                  <a:pt x="14869" y="4707"/>
                </a:lnTo>
                <a:lnTo>
                  <a:pt x="16644" y="4707"/>
                </a:lnTo>
                <a:lnTo>
                  <a:pt x="16644" y="8224"/>
                </a:lnTo>
                <a:lnTo>
                  <a:pt x="19255" y="10800"/>
                </a:lnTo>
                <a:lnTo>
                  <a:pt x="17602" y="10800"/>
                </a:lnTo>
                <a:lnTo>
                  <a:pt x="17602" y="17989"/>
                </a:lnTo>
                <a:lnTo>
                  <a:pt x="6983" y="17989"/>
                </a:lnTo>
                <a:lnTo>
                  <a:pt x="6983" y="10800"/>
                </a:lnTo>
                <a:lnTo>
                  <a:pt x="5329" y="10800"/>
                </a:lnTo>
                <a:close/>
              </a:path>
              <a:path fill="darkenLess" w="24585" h="21600">
                <a:moveTo>
                  <a:pt x="14869" y="6448"/>
                </a:moveTo>
                <a:lnTo>
                  <a:pt x="14869" y="4707"/>
                </a:lnTo>
                <a:lnTo>
                  <a:pt x="16644" y="4707"/>
                </a:lnTo>
                <a:lnTo>
                  <a:pt x="16644" y="8224"/>
                </a:lnTo>
                <a:close/>
              </a:path>
              <a:path fill="darkenLess" w="24585" h="21600">
                <a:moveTo>
                  <a:pt x="11370" y="14299"/>
                </a:moveTo>
                <a:lnTo>
                  <a:pt x="13215" y="14299"/>
                </a:lnTo>
                <a:lnTo>
                  <a:pt x="13215" y="17989"/>
                </a:lnTo>
                <a:lnTo>
                  <a:pt x="17602" y="17989"/>
                </a:lnTo>
                <a:lnTo>
                  <a:pt x="17602" y="10800"/>
                </a:lnTo>
                <a:lnTo>
                  <a:pt x="6983" y="10800"/>
                </a:lnTo>
                <a:lnTo>
                  <a:pt x="6983" y="17989"/>
                </a:lnTo>
                <a:lnTo>
                  <a:pt x="11370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7740720" y="6308640"/>
            <a:ext cx="287280" cy="252360"/>
          </a:xfrm>
          <a:custGeom>
            <a:avLst/>
            <a:gdLst>
              <a:gd name="textAreaLeft" fmla="*/ 16200 w 287280"/>
              <a:gd name="textAreaRight" fmla="*/ 271080 w 28728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4585" h="21600">
                <a:moveTo>
                  <a:pt x="0" y="0"/>
                </a:moveTo>
                <a:lnTo>
                  <a:pt x="24585" y="0"/>
                </a:lnTo>
                <a:lnTo>
                  <a:pt x="24585" y="21600"/>
                </a:lnTo>
                <a:lnTo>
                  <a:pt x="0" y="21600"/>
                </a:lnTo>
                <a:close/>
              </a:path>
              <a:path fill="lightenLess" w="24585" h="21600">
                <a:moveTo>
                  <a:pt x="0" y="0"/>
                </a:moveTo>
                <a:lnTo>
                  <a:pt x="24585" y="0"/>
                </a:lnTo>
                <a:lnTo>
                  <a:pt x="23185" y="1400"/>
                </a:lnTo>
                <a:lnTo>
                  <a:pt x="1400" y="1400"/>
                </a:lnTo>
                <a:close/>
              </a:path>
              <a:path fill="darken" w="24585" h="21600">
                <a:moveTo>
                  <a:pt x="24585" y="0"/>
                </a:moveTo>
                <a:lnTo>
                  <a:pt x="24585" y="21600"/>
                </a:lnTo>
                <a:lnTo>
                  <a:pt x="23185" y="20200"/>
                </a:lnTo>
                <a:lnTo>
                  <a:pt x="23185" y="1400"/>
                </a:lnTo>
                <a:close/>
              </a:path>
              <a:path fill="darkenLess" w="24585" h="21600">
                <a:moveTo>
                  <a:pt x="24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5" y="20200"/>
                </a:lnTo>
                <a:close/>
              </a:path>
              <a:path fill="lighten" w="24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85" h="21600">
                <a:moveTo>
                  <a:pt x="5286" y="3794"/>
                </a:moveTo>
                <a:lnTo>
                  <a:pt x="19299" y="10800"/>
                </a:lnTo>
                <a:lnTo>
                  <a:pt x="5286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250920" y="6308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24000" y="620640"/>
            <a:ext cx="4969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ЛОЖКА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330200" y="1981080"/>
            <a:ext cx="3162600" cy="41148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A17-9A5E-43E3-B866-1122677994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35F8E-9ECE-4A9E-88C4-570653D2B6AA}" type="datetime1">
              <a:rPr lang="en-US"/>
              <a:t>07/31/26</a:t>
            </a:fld>
          </a:p>
        </p:txBody>
      </p:sp>
    </p:spTree>
  </p:cSld>
  <p:transition spd="med">
    <p:cover dir="l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92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36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84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8028000" y="6381720"/>
            <a:ext cx="358920" cy="252360"/>
          </a:xfrm>
          <a:custGeom>
            <a:avLst/>
            <a:gdLst>
              <a:gd name="textAreaLeft" fmla="*/ 16200 w 358920"/>
              <a:gd name="textAreaRight" fmla="*/ 342720 w 3589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708" h="21600">
                <a:moveTo>
                  <a:pt x="0" y="0"/>
                </a:moveTo>
                <a:lnTo>
                  <a:pt x="30708" y="0"/>
                </a:lnTo>
                <a:lnTo>
                  <a:pt x="30708" y="21600"/>
                </a:lnTo>
                <a:lnTo>
                  <a:pt x="0" y="21600"/>
                </a:lnTo>
                <a:close/>
              </a:path>
              <a:path fill="lightenLess" w="30708" h="21600">
                <a:moveTo>
                  <a:pt x="0" y="0"/>
                </a:moveTo>
                <a:lnTo>
                  <a:pt x="30708" y="0"/>
                </a:lnTo>
                <a:lnTo>
                  <a:pt x="29308" y="1400"/>
                </a:lnTo>
                <a:lnTo>
                  <a:pt x="1400" y="1400"/>
                </a:lnTo>
                <a:close/>
              </a:path>
              <a:path fill="darken" w="30708" h="21600">
                <a:moveTo>
                  <a:pt x="30708" y="0"/>
                </a:moveTo>
                <a:lnTo>
                  <a:pt x="30708" y="21600"/>
                </a:lnTo>
                <a:lnTo>
                  <a:pt x="29308" y="20200"/>
                </a:lnTo>
                <a:lnTo>
                  <a:pt x="29308" y="1400"/>
                </a:lnTo>
                <a:close/>
              </a:path>
              <a:path fill="darkenLess" w="30708" h="21600">
                <a:moveTo>
                  <a:pt x="30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08" y="20200"/>
                </a:lnTo>
                <a:close/>
              </a:path>
              <a:path fill="lighten" w="30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08" h="21600">
                <a:moveTo>
                  <a:pt x="15354" y="3837"/>
                </a:moveTo>
                <a:lnTo>
                  <a:pt x="17930" y="6448"/>
                </a:lnTo>
                <a:lnTo>
                  <a:pt x="17930" y="4707"/>
                </a:lnTo>
                <a:lnTo>
                  <a:pt x="19706" y="4707"/>
                </a:lnTo>
                <a:lnTo>
                  <a:pt x="19706" y="8224"/>
                </a:lnTo>
                <a:lnTo>
                  <a:pt x="22317" y="10800"/>
                </a:lnTo>
                <a:lnTo>
                  <a:pt x="20663" y="10800"/>
                </a:lnTo>
                <a:lnTo>
                  <a:pt x="20663" y="17989"/>
                </a:lnTo>
                <a:lnTo>
                  <a:pt x="10045" y="17989"/>
                </a:lnTo>
                <a:lnTo>
                  <a:pt x="10045" y="10800"/>
                </a:lnTo>
                <a:lnTo>
                  <a:pt x="8391" y="10800"/>
                </a:lnTo>
                <a:close/>
              </a:path>
              <a:path fill="darkenLess" w="30708" h="21600">
                <a:moveTo>
                  <a:pt x="17930" y="6448"/>
                </a:moveTo>
                <a:lnTo>
                  <a:pt x="17930" y="4707"/>
                </a:lnTo>
                <a:lnTo>
                  <a:pt x="19706" y="4707"/>
                </a:lnTo>
                <a:lnTo>
                  <a:pt x="19706" y="8224"/>
                </a:lnTo>
                <a:close/>
              </a:path>
              <a:path fill="darkenLess" w="30708" h="21600">
                <a:moveTo>
                  <a:pt x="14431" y="14299"/>
                </a:moveTo>
                <a:lnTo>
                  <a:pt x="16276" y="14299"/>
                </a:lnTo>
                <a:lnTo>
                  <a:pt x="16276" y="17989"/>
                </a:lnTo>
                <a:lnTo>
                  <a:pt x="20663" y="17989"/>
                </a:lnTo>
                <a:lnTo>
                  <a:pt x="20663" y="10800"/>
                </a:lnTo>
                <a:lnTo>
                  <a:pt x="10045" y="10800"/>
                </a:lnTo>
                <a:lnTo>
                  <a:pt x="10045" y="17989"/>
                </a:lnTo>
                <a:lnTo>
                  <a:pt x="14431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667640" y="6381720"/>
            <a:ext cx="360360" cy="25092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31007" h="21600">
                <a:moveTo>
                  <a:pt x="0" y="0"/>
                </a:moveTo>
                <a:lnTo>
                  <a:pt x="31007" y="0"/>
                </a:lnTo>
                <a:lnTo>
                  <a:pt x="31007" y="21600"/>
                </a:lnTo>
                <a:lnTo>
                  <a:pt x="0" y="21600"/>
                </a:lnTo>
                <a:close/>
              </a:path>
              <a:path fill="lightenLess" w="31007" h="21600">
                <a:moveTo>
                  <a:pt x="0" y="0"/>
                </a:moveTo>
                <a:lnTo>
                  <a:pt x="31007" y="0"/>
                </a:lnTo>
                <a:lnTo>
                  <a:pt x="29607" y="1400"/>
                </a:lnTo>
                <a:lnTo>
                  <a:pt x="1400" y="1400"/>
                </a:lnTo>
                <a:close/>
              </a:path>
              <a:path fill="darken" w="31007" h="21600">
                <a:moveTo>
                  <a:pt x="31007" y="0"/>
                </a:moveTo>
                <a:lnTo>
                  <a:pt x="31007" y="21600"/>
                </a:lnTo>
                <a:lnTo>
                  <a:pt x="29607" y="20200"/>
                </a:lnTo>
                <a:lnTo>
                  <a:pt x="29607" y="1400"/>
                </a:lnTo>
                <a:close/>
              </a:path>
              <a:path fill="darkenLess" w="31007" h="21600">
                <a:moveTo>
                  <a:pt x="31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07" y="20200"/>
                </a:lnTo>
                <a:close/>
              </a:path>
              <a:path fill="lighten" w="31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07" h="21600">
                <a:moveTo>
                  <a:pt x="8497" y="3794"/>
                </a:moveTo>
                <a:lnTo>
                  <a:pt x="22510" y="10800"/>
                </a:lnTo>
                <a:lnTo>
                  <a:pt x="8497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395280" y="6381720"/>
            <a:ext cx="360360" cy="260280"/>
          </a:xfrm>
          <a:custGeom>
            <a:avLst/>
            <a:gdLst>
              <a:gd name="textAreaLeft" fmla="*/ 16560 w 360360"/>
              <a:gd name="textAreaRight" fmla="*/ 343800 w 360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9894" h="21600">
                <a:moveTo>
                  <a:pt x="0" y="0"/>
                </a:moveTo>
                <a:lnTo>
                  <a:pt x="29894" y="0"/>
                </a:lnTo>
                <a:lnTo>
                  <a:pt x="29894" y="21600"/>
                </a:lnTo>
                <a:lnTo>
                  <a:pt x="0" y="21600"/>
                </a:lnTo>
                <a:close/>
              </a:path>
              <a:path fill="lightenLess" w="29894" h="21600">
                <a:moveTo>
                  <a:pt x="0" y="0"/>
                </a:moveTo>
                <a:lnTo>
                  <a:pt x="29894" y="0"/>
                </a:lnTo>
                <a:lnTo>
                  <a:pt x="28494" y="1400"/>
                </a:lnTo>
                <a:lnTo>
                  <a:pt x="1400" y="1400"/>
                </a:lnTo>
                <a:close/>
              </a:path>
              <a:path fill="darken" w="29894" h="21600">
                <a:moveTo>
                  <a:pt x="29894" y="0"/>
                </a:moveTo>
                <a:lnTo>
                  <a:pt x="29894" y="21600"/>
                </a:lnTo>
                <a:lnTo>
                  <a:pt x="28494" y="20200"/>
                </a:lnTo>
                <a:lnTo>
                  <a:pt x="28494" y="1400"/>
                </a:lnTo>
                <a:close/>
              </a:path>
              <a:path fill="darkenLess" w="29894" h="21600">
                <a:moveTo>
                  <a:pt x="29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94" y="20200"/>
                </a:lnTo>
                <a:close/>
              </a:path>
              <a:path fill="lighten" w="29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94" h="21600">
                <a:moveTo>
                  <a:pt x="7940" y="10800"/>
                </a:moveTo>
                <a:lnTo>
                  <a:pt x="21953" y="3794"/>
                </a:lnTo>
                <a:lnTo>
                  <a:pt x="21953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вает обложка из твердого картона, и тогда называется «ПЕРЕПЛЕТ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«переплет» попадают толстые книги с большим количеством страниц, которые трудно закрепить простыми скрепк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76360" y="47628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ложка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481040" y="1981080"/>
            <a:ext cx="2863800" cy="41148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667640" y="6381720"/>
            <a:ext cx="360360" cy="25092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31007" h="21600">
                <a:moveTo>
                  <a:pt x="0" y="0"/>
                </a:moveTo>
                <a:lnTo>
                  <a:pt x="31007" y="0"/>
                </a:lnTo>
                <a:lnTo>
                  <a:pt x="31007" y="21600"/>
                </a:lnTo>
                <a:lnTo>
                  <a:pt x="0" y="21600"/>
                </a:lnTo>
                <a:close/>
              </a:path>
              <a:path fill="lightenLess" w="31007" h="21600">
                <a:moveTo>
                  <a:pt x="0" y="0"/>
                </a:moveTo>
                <a:lnTo>
                  <a:pt x="31007" y="0"/>
                </a:lnTo>
                <a:lnTo>
                  <a:pt x="29607" y="1400"/>
                </a:lnTo>
                <a:lnTo>
                  <a:pt x="1400" y="1400"/>
                </a:lnTo>
                <a:close/>
              </a:path>
              <a:path fill="darken" w="31007" h="21600">
                <a:moveTo>
                  <a:pt x="31007" y="0"/>
                </a:moveTo>
                <a:lnTo>
                  <a:pt x="31007" y="21600"/>
                </a:lnTo>
                <a:lnTo>
                  <a:pt x="29607" y="20200"/>
                </a:lnTo>
                <a:lnTo>
                  <a:pt x="29607" y="1400"/>
                </a:lnTo>
                <a:close/>
              </a:path>
              <a:path fill="darkenLess" w="31007" h="21600">
                <a:moveTo>
                  <a:pt x="31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07" y="20200"/>
                </a:lnTo>
                <a:close/>
              </a:path>
              <a:path fill="lighten" w="31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07" h="21600">
                <a:moveTo>
                  <a:pt x="8497" y="3794"/>
                </a:moveTo>
                <a:lnTo>
                  <a:pt x="22510" y="10800"/>
                </a:lnTo>
                <a:lnTo>
                  <a:pt x="8497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9D7-8327-4F94-BAEC-8290205C74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C3DBF-1997-46B4-8EB0-769A8F432C52}" type="datetime1">
              <a:rPr lang="en-US"/>
              <a:t>07/31/26</a:t>
            </a:fld>
          </a:p>
        </p:txBody>
      </p:sp>
    </p:spTree>
  </p:cSld>
  <p:transition spd="med">
    <p:cover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32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28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921200" y="1628280"/>
            <a:ext cx="3689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 иногда поверх обычного переплета делают еще дополнительную обложку из бумаг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на охраняет основу, украшает и называе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«СУПЕРОБЛОЖКОЙ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956720" y="6237360"/>
            <a:ext cx="358560" cy="323640"/>
          </a:xfrm>
          <a:custGeom>
            <a:avLst/>
            <a:gdLst>
              <a:gd name="textAreaLeft" fmla="*/ 20880 w 358560"/>
              <a:gd name="textAreaRight" fmla="*/ 337680 w 35856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3928" h="21600">
                <a:moveTo>
                  <a:pt x="0" y="0"/>
                </a:moveTo>
                <a:lnTo>
                  <a:pt x="23928" y="0"/>
                </a:lnTo>
                <a:lnTo>
                  <a:pt x="23928" y="21600"/>
                </a:lnTo>
                <a:lnTo>
                  <a:pt x="0" y="21600"/>
                </a:lnTo>
                <a:close/>
              </a:path>
              <a:path fill="lightenLess" w="23928" h="21600">
                <a:moveTo>
                  <a:pt x="0" y="0"/>
                </a:moveTo>
                <a:lnTo>
                  <a:pt x="23928" y="0"/>
                </a:lnTo>
                <a:lnTo>
                  <a:pt x="22528" y="1400"/>
                </a:lnTo>
                <a:lnTo>
                  <a:pt x="1400" y="1400"/>
                </a:lnTo>
                <a:close/>
              </a:path>
              <a:path fill="darken" w="23928" h="21600">
                <a:moveTo>
                  <a:pt x="23928" y="0"/>
                </a:moveTo>
                <a:lnTo>
                  <a:pt x="23928" y="21600"/>
                </a:lnTo>
                <a:lnTo>
                  <a:pt x="22528" y="20200"/>
                </a:lnTo>
                <a:lnTo>
                  <a:pt x="22528" y="1400"/>
                </a:lnTo>
                <a:close/>
              </a:path>
              <a:path fill="darkenLess" w="23928" h="21600">
                <a:moveTo>
                  <a:pt x="23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8" y="20200"/>
                </a:lnTo>
                <a:close/>
              </a:path>
              <a:path fill="lighten" w="23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8" h="21600">
                <a:moveTo>
                  <a:pt x="11964" y="3837"/>
                </a:moveTo>
                <a:lnTo>
                  <a:pt x="14540" y="6448"/>
                </a:lnTo>
                <a:lnTo>
                  <a:pt x="14540" y="4707"/>
                </a:lnTo>
                <a:lnTo>
                  <a:pt x="16316" y="4707"/>
                </a:lnTo>
                <a:lnTo>
                  <a:pt x="16316" y="8224"/>
                </a:lnTo>
                <a:lnTo>
                  <a:pt x="18927" y="10800"/>
                </a:lnTo>
                <a:lnTo>
                  <a:pt x="17273" y="10800"/>
                </a:lnTo>
                <a:lnTo>
                  <a:pt x="17273" y="17989"/>
                </a:lnTo>
                <a:lnTo>
                  <a:pt x="6655" y="17989"/>
                </a:lnTo>
                <a:lnTo>
                  <a:pt x="6655" y="10800"/>
                </a:lnTo>
                <a:lnTo>
                  <a:pt x="5001" y="10800"/>
                </a:lnTo>
                <a:close/>
              </a:path>
              <a:path fill="darkenLess" w="23928" h="21600">
                <a:moveTo>
                  <a:pt x="14540" y="6448"/>
                </a:moveTo>
                <a:lnTo>
                  <a:pt x="14540" y="4707"/>
                </a:lnTo>
                <a:lnTo>
                  <a:pt x="16316" y="4707"/>
                </a:lnTo>
                <a:lnTo>
                  <a:pt x="16316" y="8224"/>
                </a:lnTo>
                <a:close/>
              </a:path>
              <a:path fill="darkenLess" w="23928" h="21600">
                <a:moveTo>
                  <a:pt x="11041" y="14299"/>
                </a:moveTo>
                <a:lnTo>
                  <a:pt x="12887" y="14299"/>
                </a:lnTo>
                <a:lnTo>
                  <a:pt x="12887" y="17989"/>
                </a:lnTo>
                <a:lnTo>
                  <a:pt x="17273" y="17989"/>
                </a:lnTo>
                <a:lnTo>
                  <a:pt x="17273" y="10800"/>
                </a:lnTo>
                <a:lnTo>
                  <a:pt x="6655" y="10800"/>
                </a:lnTo>
                <a:lnTo>
                  <a:pt x="6655" y="17989"/>
                </a:lnTo>
                <a:lnTo>
                  <a:pt x="11041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596360" y="6237360"/>
            <a:ext cx="357120" cy="323640"/>
          </a:xfrm>
          <a:custGeom>
            <a:avLst/>
            <a:gdLst>
              <a:gd name="textAreaLeft" fmla="*/ 20880 w 357120"/>
              <a:gd name="textAreaRight" fmla="*/ 336240 w 3571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3832" h="21600">
                <a:moveTo>
                  <a:pt x="0" y="0"/>
                </a:moveTo>
                <a:lnTo>
                  <a:pt x="23832" y="0"/>
                </a:lnTo>
                <a:lnTo>
                  <a:pt x="23832" y="21600"/>
                </a:lnTo>
                <a:lnTo>
                  <a:pt x="0" y="21600"/>
                </a:lnTo>
                <a:close/>
              </a:path>
              <a:path fill="lightenLess" w="23832" h="21600">
                <a:moveTo>
                  <a:pt x="0" y="0"/>
                </a:moveTo>
                <a:lnTo>
                  <a:pt x="23832" y="0"/>
                </a:lnTo>
                <a:lnTo>
                  <a:pt x="22432" y="1400"/>
                </a:lnTo>
                <a:lnTo>
                  <a:pt x="1400" y="1400"/>
                </a:lnTo>
                <a:close/>
              </a:path>
              <a:path fill="darken" w="23832" h="21600">
                <a:moveTo>
                  <a:pt x="23832" y="0"/>
                </a:moveTo>
                <a:lnTo>
                  <a:pt x="23832" y="21600"/>
                </a:lnTo>
                <a:lnTo>
                  <a:pt x="22432" y="20200"/>
                </a:lnTo>
                <a:lnTo>
                  <a:pt x="22432" y="1400"/>
                </a:lnTo>
                <a:close/>
              </a:path>
              <a:path fill="darkenLess" w="23832" h="21600">
                <a:moveTo>
                  <a:pt x="23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2" y="20200"/>
                </a:lnTo>
                <a:close/>
              </a:path>
              <a:path fill="lighten" w="23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2" h="21600">
                <a:moveTo>
                  <a:pt x="4910" y="3794"/>
                </a:moveTo>
                <a:lnTo>
                  <a:pt x="18922" y="10800"/>
                </a:lnTo>
                <a:lnTo>
                  <a:pt x="4910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250920" y="6308640"/>
            <a:ext cx="288720" cy="333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33360"/>
              <a:gd name="textAreaBottom" fmla="*/ 314640 h 333360"/>
            </a:gdLst>
            <a:ahLst/>
            <a:rect l="textAreaLeft" t="textAreaTop" r="textAreaRight" b="textAreaBottom"/>
            <a:pathLst>
              <a:path w="21600" h="24935">
                <a:moveTo>
                  <a:pt x="0" y="0"/>
                </a:moveTo>
                <a:lnTo>
                  <a:pt x="21600" y="0"/>
                </a:lnTo>
                <a:lnTo>
                  <a:pt x="21600" y="24935"/>
                </a:lnTo>
                <a:lnTo>
                  <a:pt x="0" y="24935"/>
                </a:lnTo>
                <a:close/>
              </a:path>
              <a:path fill="lightenLess" w="21600" h="249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35">
                <a:moveTo>
                  <a:pt x="21600" y="0"/>
                </a:moveTo>
                <a:lnTo>
                  <a:pt x="21600" y="24935"/>
                </a:lnTo>
                <a:lnTo>
                  <a:pt x="20200" y="23535"/>
                </a:lnTo>
                <a:lnTo>
                  <a:pt x="20200" y="1400"/>
                </a:lnTo>
                <a:close/>
              </a:path>
              <a:path fill="darkenLess" w="21600" h="24935">
                <a:moveTo>
                  <a:pt x="21600" y="24935"/>
                </a:moveTo>
                <a:lnTo>
                  <a:pt x="0" y="24935"/>
                </a:lnTo>
                <a:lnTo>
                  <a:pt x="1400" y="23535"/>
                </a:lnTo>
                <a:lnTo>
                  <a:pt x="20200" y="23535"/>
                </a:lnTo>
                <a:close/>
              </a:path>
              <a:path fill="lighten" w="21600" h="24935">
                <a:moveTo>
                  <a:pt x="0" y="249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35"/>
                </a:lnTo>
                <a:close/>
              </a:path>
              <a:path fill="darken" w="21600" h="24935">
                <a:moveTo>
                  <a:pt x="3794" y="12468"/>
                </a:moveTo>
                <a:lnTo>
                  <a:pt x="17806" y="5461"/>
                </a:lnTo>
                <a:lnTo>
                  <a:pt x="17806" y="1947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08000" y="620640"/>
            <a:ext cx="4032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ложка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373040" y="1981080"/>
            <a:ext cx="3078360" cy="41148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313-D9E6-40D8-9825-B2D777FBF6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1AC04-DDD7-436A-9AF8-18851C9AAB47}" type="datetime1">
              <a:rPr lang="en-US"/>
              <a:t>07/31/26</a:t>
            </a:fld>
          </a:p>
        </p:txBody>
      </p:sp>
    </p:spTree>
  </p:cSld>
  <p:transition spd="med">
    <p:cover dir="l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64000" y="1989000"/>
            <a:ext cx="340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 понять о чем книг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На помощь могут прийти иллюстрации: рисунки на обложке или внутри книги. Они расскажут, кто герои книги, где происходят собы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956720" y="6381720"/>
            <a:ext cx="358560" cy="252360"/>
          </a:xfrm>
          <a:custGeom>
            <a:avLst/>
            <a:gdLst>
              <a:gd name="textAreaLeft" fmla="*/ 16200 w 358560"/>
              <a:gd name="textAreaRight" fmla="*/ 342360 w 3585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677" h="21600">
                <a:moveTo>
                  <a:pt x="0" y="0"/>
                </a:moveTo>
                <a:lnTo>
                  <a:pt x="30677" y="0"/>
                </a:lnTo>
                <a:lnTo>
                  <a:pt x="30677" y="21600"/>
                </a:lnTo>
                <a:lnTo>
                  <a:pt x="0" y="21600"/>
                </a:lnTo>
                <a:close/>
              </a:path>
              <a:path fill="lightenLess" w="30677" h="21600">
                <a:moveTo>
                  <a:pt x="0" y="0"/>
                </a:moveTo>
                <a:lnTo>
                  <a:pt x="30677" y="0"/>
                </a:lnTo>
                <a:lnTo>
                  <a:pt x="29277" y="1400"/>
                </a:lnTo>
                <a:lnTo>
                  <a:pt x="1400" y="1400"/>
                </a:lnTo>
                <a:close/>
              </a:path>
              <a:path fill="darken" w="30677" h="21600">
                <a:moveTo>
                  <a:pt x="30677" y="0"/>
                </a:moveTo>
                <a:lnTo>
                  <a:pt x="30677" y="21600"/>
                </a:lnTo>
                <a:lnTo>
                  <a:pt x="29277" y="20200"/>
                </a:lnTo>
                <a:lnTo>
                  <a:pt x="29277" y="1400"/>
                </a:lnTo>
                <a:close/>
              </a:path>
              <a:path fill="darkenLess" w="30677" h="21600">
                <a:moveTo>
                  <a:pt x="30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77" y="20200"/>
                </a:lnTo>
                <a:close/>
              </a:path>
              <a:path fill="lighten" w="30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77" h="21600">
                <a:moveTo>
                  <a:pt x="15338" y="3837"/>
                </a:moveTo>
                <a:lnTo>
                  <a:pt x="17915" y="6448"/>
                </a:lnTo>
                <a:lnTo>
                  <a:pt x="17915" y="4707"/>
                </a:lnTo>
                <a:lnTo>
                  <a:pt x="19690" y="4707"/>
                </a:lnTo>
                <a:lnTo>
                  <a:pt x="19690" y="8224"/>
                </a:lnTo>
                <a:lnTo>
                  <a:pt x="22301" y="10800"/>
                </a:lnTo>
                <a:lnTo>
                  <a:pt x="20648" y="10800"/>
                </a:lnTo>
                <a:lnTo>
                  <a:pt x="20648" y="17989"/>
                </a:lnTo>
                <a:lnTo>
                  <a:pt x="10029" y="17989"/>
                </a:lnTo>
                <a:lnTo>
                  <a:pt x="10029" y="10800"/>
                </a:lnTo>
                <a:lnTo>
                  <a:pt x="8375" y="10800"/>
                </a:lnTo>
                <a:close/>
              </a:path>
              <a:path fill="darkenLess" w="30677" h="21600">
                <a:moveTo>
                  <a:pt x="17915" y="6448"/>
                </a:moveTo>
                <a:lnTo>
                  <a:pt x="17915" y="4707"/>
                </a:lnTo>
                <a:lnTo>
                  <a:pt x="19690" y="4707"/>
                </a:lnTo>
                <a:lnTo>
                  <a:pt x="19690" y="8224"/>
                </a:lnTo>
                <a:close/>
              </a:path>
              <a:path fill="darkenLess" w="30677" h="21600">
                <a:moveTo>
                  <a:pt x="14416" y="14299"/>
                </a:moveTo>
                <a:lnTo>
                  <a:pt x="16261" y="14299"/>
                </a:lnTo>
                <a:lnTo>
                  <a:pt x="16261" y="17989"/>
                </a:lnTo>
                <a:lnTo>
                  <a:pt x="20648" y="17989"/>
                </a:lnTo>
                <a:lnTo>
                  <a:pt x="20648" y="10800"/>
                </a:lnTo>
                <a:lnTo>
                  <a:pt x="10029" y="10800"/>
                </a:lnTo>
                <a:lnTo>
                  <a:pt x="10029" y="17989"/>
                </a:lnTo>
                <a:lnTo>
                  <a:pt x="14416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596360" y="6381720"/>
            <a:ext cx="360360" cy="25092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31007" h="21600">
                <a:moveTo>
                  <a:pt x="0" y="0"/>
                </a:moveTo>
                <a:lnTo>
                  <a:pt x="31007" y="0"/>
                </a:lnTo>
                <a:lnTo>
                  <a:pt x="31007" y="21600"/>
                </a:lnTo>
                <a:lnTo>
                  <a:pt x="0" y="21600"/>
                </a:lnTo>
                <a:close/>
              </a:path>
              <a:path fill="lightenLess" w="31007" h="21600">
                <a:moveTo>
                  <a:pt x="0" y="0"/>
                </a:moveTo>
                <a:lnTo>
                  <a:pt x="31007" y="0"/>
                </a:lnTo>
                <a:lnTo>
                  <a:pt x="29607" y="1400"/>
                </a:lnTo>
                <a:lnTo>
                  <a:pt x="1400" y="1400"/>
                </a:lnTo>
                <a:close/>
              </a:path>
              <a:path fill="darken" w="31007" h="21600">
                <a:moveTo>
                  <a:pt x="31007" y="0"/>
                </a:moveTo>
                <a:lnTo>
                  <a:pt x="31007" y="21600"/>
                </a:lnTo>
                <a:lnTo>
                  <a:pt x="29607" y="20200"/>
                </a:lnTo>
                <a:lnTo>
                  <a:pt x="29607" y="1400"/>
                </a:lnTo>
                <a:close/>
              </a:path>
              <a:path fill="darkenLess" w="31007" h="21600">
                <a:moveTo>
                  <a:pt x="31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07" y="20200"/>
                </a:lnTo>
                <a:close/>
              </a:path>
              <a:path fill="lighten" w="31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07" h="21600">
                <a:moveTo>
                  <a:pt x="8497" y="3794"/>
                </a:moveTo>
                <a:lnTo>
                  <a:pt x="22510" y="10800"/>
                </a:lnTo>
                <a:lnTo>
                  <a:pt x="8497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250920" y="6381720"/>
            <a:ext cx="288720" cy="260280"/>
          </a:xfrm>
          <a:custGeom>
            <a:avLst/>
            <a:gdLst>
              <a:gd name="textAreaLeft" fmla="*/ 16560 w 288720"/>
              <a:gd name="textAreaRight" fmla="*/ 272160 w 288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57" h="21600">
                <a:moveTo>
                  <a:pt x="0" y="0"/>
                </a:moveTo>
                <a:lnTo>
                  <a:pt x="23957" y="0"/>
                </a:lnTo>
                <a:lnTo>
                  <a:pt x="23957" y="21600"/>
                </a:lnTo>
                <a:lnTo>
                  <a:pt x="0" y="21600"/>
                </a:lnTo>
                <a:close/>
              </a:path>
              <a:path fill="lightenLess" w="23957" h="21600">
                <a:moveTo>
                  <a:pt x="0" y="0"/>
                </a:moveTo>
                <a:lnTo>
                  <a:pt x="23957" y="0"/>
                </a:lnTo>
                <a:lnTo>
                  <a:pt x="22557" y="1400"/>
                </a:lnTo>
                <a:lnTo>
                  <a:pt x="1400" y="1400"/>
                </a:lnTo>
                <a:close/>
              </a:path>
              <a:path fill="darken" w="23957" h="21600">
                <a:moveTo>
                  <a:pt x="23957" y="0"/>
                </a:moveTo>
                <a:lnTo>
                  <a:pt x="23957" y="21600"/>
                </a:lnTo>
                <a:lnTo>
                  <a:pt x="22557" y="20200"/>
                </a:lnTo>
                <a:lnTo>
                  <a:pt x="22557" y="1400"/>
                </a:lnTo>
                <a:close/>
              </a:path>
              <a:path fill="darkenLess" w="23957" h="21600">
                <a:moveTo>
                  <a:pt x="2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57" y="20200"/>
                </a:lnTo>
                <a:close/>
              </a:path>
              <a:path fill="lighten" w="2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57" h="21600">
                <a:moveTo>
                  <a:pt x="4972" y="10800"/>
                </a:moveTo>
                <a:lnTo>
                  <a:pt x="18985" y="3794"/>
                </a:lnTo>
                <a:lnTo>
                  <a:pt x="18985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47640" y="333360"/>
            <a:ext cx="540072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ллюстрации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547640" y="1989000"/>
            <a:ext cx="2980080" cy="45435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4140360" y="3500280"/>
            <a:ext cx="1008000" cy="289080"/>
          </a:xfrm>
          <a:prstGeom prst="leftArrow">
            <a:avLst>
              <a:gd name="adj1" fmla="val 50000"/>
              <a:gd name="adj2" fmla="val 87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0C1-096A-45B3-B87A-8B517A1EBB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7E062-92B8-4CA6-B59B-0431136B0EF6}" type="datetime1">
              <a:rPr lang="en-US"/>
              <a:t>07/31/26</a:t>
            </a:fld>
          </a:p>
        </p:txBody>
      </p:sp>
    </p:spTree>
  </p:cSld>
  <p:transition spd="med">
    <p:cover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80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28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28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крываем обложку и посмотрим на первую страниц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а называется «ТИТУЛЬНЫЙ ЛИСТ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десь мы найдем фамилию автора и заглав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812000" y="6381720"/>
            <a:ext cx="287280" cy="252360"/>
          </a:xfrm>
          <a:custGeom>
            <a:avLst/>
            <a:gdLst>
              <a:gd name="textAreaLeft" fmla="*/ 16200 w 287280"/>
              <a:gd name="textAreaRight" fmla="*/ 271080 w 28728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4585" h="21600">
                <a:moveTo>
                  <a:pt x="0" y="0"/>
                </a:moveTo>
                <a:lnTo>
                  <a:pt x="24585" y="0"/>
                </a:lnTo>
                <a:lnTo>
                  <a:pt x="24585" y="21600"/>
                </a:lnTo>
                <a:lnTo>
                  <a:pt x="0" y="21600"/>
                </a:lnTo>
                <a:close/>
              </a:path>
              <a:path fill="lightenLess" w="24585" h="21600">
                <a:moveTo>
                  <a:pt x="0" y="0"/>
                </a:moveTo>
                <a:lnTo>
                  <a:pt x="24585" y="0"/>
                </a:lnTo>
                <a:lnTo>
                  <a:pt x="23185" y="1400"/>
                </a:lnTo>
                <a:lnTo>
                  <a:pt x="1400" y="1400"/>
                </a:lnTo>
                <a:close/>
              </a:path>
              <a:path fill="darken" w="24585" h="21600">
                <a:moveTo>
                  <a:pt x="24585" y="0"/>
                </a:moveTo>
                <a:lnTo>
                  <a:pt x="24585" y="21600"/>
                </a:lnTo>
                <a:lnTo>
                  <a:pt x="23185" y="20200"/>
                </a:lnTo>
                <a:lnTo>
                  <a:pt x="23185" y="1400"/>
                </a:lnTo>
                <a:close/>
              </a:path>
              <a:path fill="darkenLess" w="24585" h="21600">
                <a:moveTo>
                  <a:pt x="24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5" y="20200"/>
                </a:lnTo>
                <a:close/>
              </a:path>
              <a:path fill="lighten" w="24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85" h="21600">
                <a:moveTo>
                  <a:pt x="12292" y="3837"/>
                </a:moveTo>
                <a:lnTo>
                  <a:pt x="14869" y="6448"/>
                </a:lnTo>
                <a:lnTo>
                  <a:pt x="14869" y="4707"/>
                </a:lnTo>
                <a:lnTo>
                  <a:pt x="16644" y="4707"/>
                </a:lnTo>
                <a:lnTo>
                  <a:pt x="16644" y="8224"/>
                </a:lnTo>
                <a:lnTo>
                  <a:pt x="19255" y="10800"/>
                </a:lnTo>
                <a:lnTo>
                  <a:pt x="17602" y="10800"/>
                </a:lnTo>
                <a:lnTo>
                  <a:pt x="17602" y="17989"/>
                </a:lnTo>
                <a:lnTo>
                  <a:pt x="6983" y="17989"/>
                </a:lnTo>
                <a:lnTo>
                  <a:pt x="6983" y="10800"/>
                </a:lnTo>
                <a:lnTo>
                  <a:pt x="5329" y="10800"/>
                </a:lnTo>
                <a:close/>
              </a:path>
              <a:path fill="darkenLess" w="24585" h="21600">
                <a:moveTo>
                  <a:pt x="14869" y="6448"/>
                </a:moveTo>
                <a:lnTo>
                  <a:pt x="14869" y="4707"/>
                </a:lnTo>
                <a:lnTo>
                  <a:pt x="16644" y="4707"/>
                </a:lnTo>
                <a:lnTo>
                  <a:pt x="16644" y="8224"/>
                </a:lnTo>
                <a:close/>
              </a:path>
              <a:path fill="darkenLess" w="24585" h="21600">
                <a:moveTo>
                  <a:pt x="11370" y="14299"/>
                </a:moveTo>
                <a:lnTo>
                  <a:pt x="13215" y="14299"/>
                </a:lnTo>
                <a:lnTo>
                  <a:pt x="13215" y="17989"/>
                </a:lnTo>
                <a:lnTo>
                  <a:pt x="17602" y="17989"/>
                </a:lnTo>
                <a:lnTo>
                  <a:pt x="17602" y="10800"/>
                </a:lnTo>
                <a:lnTo>
                  <a:pt x="6983" y="10800"/>
                </a:lnTo>
                <a:lnTo>
                  <a:pt x="6983" y="17989"/>
                </a:lnTo>
                <a:lnTo>
                  <a:pt x="11370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7524720" y="6381720"/>
            <a:ext cx="216000" cy="25092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50920"/>
              <a:gd name="textAreaBottom" fmla="*/ 237240 h 250920"/>
            </a:gdLst>
            <a:ahLst/>
            <a:rect l="textAreaLeft" t="textAreaTop" r="textAreaRight" b="textAreaBottom"/>
            <a:pathLst>
              <a:path w="21600" h="25086">
                <a:moveTo>
                  <a:pt x="0" y="0"/>
                </a:moveTo>
                <a:lnTo>
                  <a:pt x="21600" y="0"/>
                </a:lnTo>
                <a:lnTo>
                  <a:pt x="21600" y="25086"/>
                </a:lnTo>
                <a:lnTo>
                  <a:pt x="0" y="25086"/>
                </a:lnTo>
                <a:close/>
              </a:path>
              <a:path fill="lightenLess" w="21600" h="250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86">
                <a:moveTo>
                  <a:pt x="21600" y="0"/>
                </a:moveTo>
                <a:lnTo>
                  <a:pt x="21600" y="25086"/>
                </a:lnTo>
                <a:lnTo>
                  <a:pt x="20200" y="23686"/>
                </a:lnTo>
                <a:lnTo>
                  <a:pt x="20200" y="1400"/>
                </a:lnTo>
                <a:close/>
              </a:path>
              <a:path fill="darkenLess" w="21600" h="25086">
                <a:moveTo>
                  <a:pt x="21600" y="25086"/>
                </a:moveTo>
                <a:lnTo>
                  <a:pt x="0" y="25086"/>
                </a:lnTo>
                <a:lnTo>
                  <a:pt x="1400" y="23686"/>
                </a:lnTo>
                <a:lnTo>
                  <a:pt x="20200" y="23686"/>
                </a:lnTo>
                <a:close/>
              </a:path>
              <a:path fill="lighten" w="21600" h="25086">
                <a:moveTo>
                  <a:pt x="0" y="250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86"/>
                </a:lnTo>
                <a:close/>
              </a:path>
              <a:path fill="darken" w="21600" h="25086">
                <a:moveTo>
                  <a:pt x="3794" y="5537"/>
                </a:moveTo>
                <a:lnTo>
                  <a:pt x="17806" y="12543"/>
                </a:lnTo>
                <a:lnTo>
                  <a:pt x="3794" y="1955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250920" y="6308640"/>
            <a:ext cx="288720" cy="333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33360"/>
              <a:gd name="textAreaBottom" fmla="*/ 314640 h 333360"/>
            </a:gdLst>
            <a:ahLst/>
            <a:rect l="textAreaLeft" t="textAreaTop" r="textAreaRight" b="textAreaBottom"/>
            <a:pathLst>
              <a:path w="21600" h="24935">
                <a:moveTo>
                  <a:pt x="0" y="0"/>
                </a:moveTo>
                <a:lnTo>
                  <a:pt x="21600" y="0"/>
                </a:lnTo>
                <a:lnTo>
                  <a:pt x="21600" y="24935"/>
                </a:lnTo>
                <a:lnTo>
                  <a:pt x="0" y="24935"/>
                </a:lnTo>
                <a:close/>
              </a:path>
              <a:path fill="lightenLess" w="21600" h="249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35">
                <a:moveTo>
                  <a:pt x="21600" y="0"/>
                </a:moveTo>
                <a:lnTo>
                  <a:pt x="21600" y="24935"/>
                </a:lnTo>
                <a:lnTo>
                  <a:pt x="20200" y="23535"/>
                </a:lnTo>
                <a:lnTo>
                  <a:pt x="20200" y="1400"/>
                </a:lnTo>
                <a:close/>
              </a:path>
              <a:path fill="darkenLess" w="21600" h="24935">
                <a:moveTo>
                  <a:pt x="21600" y="24935"/>
                </a:moveTo>
                <a:lnTo>
                  <a:pt x="0" y="24935"/>
                </a:lnTo>
                <a:lnTo>
                  <a:pt x="1400" y="23535"/>
                </a:lnTo>
                <a:lnTo>
                  <a:pt x="20200" y="23535"/>
                </a:lnTo>
                <a:close/>
              </a:path>
              <a:path fill="lighten" w="21600" h="24935">
                <a:moveTo>
                  <a:pt x="0" y="249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35"/>
                </a:lnTo>
                <a:close/>
              </a:path>
              <a:path fill="darken" w="21600" h="24935">
                <a:moveTo>
                  <a:pt x="3794" y="12468"/>
                </a:moveTo>
                <a:lnTo>
                  <a:pt x="17806" y="5461"/>
                </a:lnTo>
                <a:lnTo>
                  <a:pt x="17806" y="1947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6360" y="62064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тульный лис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381640" y="1981080"/>
            <a:ext cx="2762280" cy="41148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иблиотечн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96A-68DB-4489-9F5F-B308574CE4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3A1D7-2C96-423C-BBBE-335334CF3C62}" type="datetime1">
              <a:rPr lang="en-US"/>
              <a:t>07/31/26</a:t>
            </a:fld>
          </a:p>
        </p:txBody>
      </p:sp>
    </p:spTree>
  </p:cSld>
  <p:transition spd="med">
    <p:cover dir="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76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92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4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4:16:37Z</dcterms:created>
  <dc:creator>Тима</dc:creator>
  <dc:description/>
  <dc:language>en-US</dc:language>
  <cp:lastModifiedBy>User0</cp:lastModifiedBy>
  <dcterms:modified xsi:type="dcterms:W3CDTF">2010-06-15T11:59:06Z</dcterms:modified>
  <cp:revision>14</cp:revision>
  <dc:subject/>
  <dc:title>Слайд 1</dc:title>
</cp:coreProperties>
</file>